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9F9-BC1A-4D09-9DC1-BB9A5F53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024-C4AB-4AE7-81B0-1071226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7A0-F75B-425A-A57B-1726DE22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E77-32AC-41B9-A138-A9B19C1A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12C4-C406-4D7C-B401-378462A1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543D-26F9-4EED-ADCA-C281CDC5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35FC-001D-4011-8128-7C4C244F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0556-4B8B-4925-90AB-F1ED3AD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AB52-2C05-4D25-A802-A6F249F3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C3E6-79A6-4EA5-952B-E21A3DE3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735D-ADFF-4D10-8DD5-AF19FE7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40E-887A-4349-873F-A25A343D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B3AD-F501-45AB-A271-16DE9C26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BE93-16D7-43BD-916B-7163BB8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A59-EEA8-462F-95B2-AD26C342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DAA2-3417-4832-A16B-E1BD7CC8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8139-A4AA-4656-B6C2-1855624B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574-58B2-4232-BB25-B84E7F9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639-70C9-4FE9-AC43-BB8900A3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51A-1BAF-41E8-A2A9-AD11154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7E9-8D71-4B6A-BCF5-F813C30D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8A2-F070-4880-8D46-3233EC9C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EE9-8E84-4015-A8B4-EC35C2DC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6B3-A61B-4DB5-AC2D-BA4D8A3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B98-0740-4A29-86F9-7CDB921707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268E-66B4-405E-9B42-8FD2407805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iology.arizona.edu/biochemistry/tutorials/chemistry/page2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38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8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38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a covalent bond and an ionic bond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an example of a substance with each kind of bond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s of elements are associated with each kind of bond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>
            <a:hlinkClick r:id="rId1"/>
          </p:cNvPr>
          <p:cNvSpPr/>
          <p:nvPr/>
        </p:nvSpPr>
        <p:spPr>
          <a:xfrm>
            <a:off x="449568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7" h="21600">
                <a:moveTo>
                  <a:pt x="1080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7" h="21600">
                <a:moveTo>
                  <a:pt x="8227" y="8224"/>
                </a:moveTo>
                <a:lnTo>
                  <a:pt x="12092" y="8224"/>
                </a:lnTo>
                <a:lnTo>
                  <a:pt x="12092" y="15221"/>
                </a:lnTo>
                <a:lnTo>
                  <a:pt x="13380" y="15221"/>
                </a:lnTo>
                <a:lnTo>
                  <a:pt x="13380" y="16144"/>
                </a:lnTo>
                <a:lnTo>
                  <a:pt x="8227" y="16144"/>
                </a:lnTo>
                <a:lnTo>
                  <a:pt x="8227" y="15221"/>
                </a:lnTo>
                <a:lnTo>
                  <a:pt x="9516" y="15221"/>
                </a:lnTo>
                <a:lnTo>
                  <a:pt x="9516" y="9129"/>
                </a:lnTo>
                <a:lnTo>
                  <a:pt x="8227" y="9129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7:11:46Z</dcterms:created>
  <dc:creator>PritchaJ</dc:creator>
  <dc:description/>
  <dc:language>en-US</dc:language>
  <cp:lastModifiedBy>PritchaJ</cp:lastModifiedBy>
  <dcterms:modified xsi:type="dcterms:W3CDTF">2011-05-24T17:23:18Z</dcterms:modified>
  <cp:revision>2</cp:revision>
  <dc:subject/>
  <dc:title>Slide 1</dc:title>
</cp:coreProperties>
</file>